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9D13-DF08-466A-969C-B63D19606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5DBD-659B-46CC-B57E-BA39C8168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7E17-9B4F-4936-847F-E6B7CAD68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EEF4-EA7A-43D9-A009-92C18E847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876E-C5A6-4D9A-A311-C65B10BE2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0825-D59D-48F1-B548-CD11C627C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1F7A-EC6E-453D-8BFC-F3FD66602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9348-38BD-4FFB-9A98-83E242F1B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5004-F280-43C2-B056-24213557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6311-8AF0-4631-BF08-54352CC05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AE01-247E-4A36-99E5-5D06523AE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0950-3419-43BF-8644-680B7F353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O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0FD82BB5-831F-47B1-A12A-006FBCCF32C3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Fraun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klasse.nl/english/research/octopus-intro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presentation of OCL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Object Constrain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Fraunhofer FOK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840" y="6327720"/>
            <a:ext cx="1511280" cy="5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36B2-B537-4337-9DE9-BD49C10FC2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196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2 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960" y="1058400"/>
            <a:ext cx="8143920" cy="53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nstraint is an element of the UML2 metamode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art of the Kernel-Packag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scribes additional semantic of one or more model elements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Language is not predefined: natural language, OCL, Java etc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„Owner“ of a constraint determines the time of the constraint evaluation (e.g.: Owner: Operation, time of the evaluation : pre or post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05840" indent="-20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Constrained Elements: set of elements referenced by the Constraint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31920" y="2424240"/>
            <a:ext cx="857088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457B-848C-48E1-A121-0B0ABE02AD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7560" y="1429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4920" y="939960"/>
            <a:ext cx="78246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66"/>
                </a:solidFill>
                <a:latin typeface="Comic Sans MS"/>
              </a:rPr>
              <a:t>Value Specific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Comic Sans MS"/>
              </a:rPr>
              <a:t>In case of OCL: Expression with Language == „OCL“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1200" y="2154240"/>
            <a:ext cx="8381880" cy="37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48E4-75F6-4117-BF88-7FE6DB74D7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704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0240" y="124884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notation in UML 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 ::= ‘{‘ [ &lt;name&gt; ‘:’ ] &lt;expression&gt;’ }’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follow the element directly (e.g. Attribute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placed near the symbol for the element, preferably near the name, if any (e.g. Association End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shown as a dashed line between two elements (if a Constraint applies to two elements) labeled by the constraint string (in brace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be placed in a note symbo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F0AB-3A41-4031-A86F-394E7A14DD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940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3480" y="2259000"/>
            <a:ext cx="7824960" cy="37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inv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variant: constraint must be tru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 all instances of constrained type at any tim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 is always of the type Boolea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: self.age &gt; 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 age_18: self.age &gt;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c : Employee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v: c.age &gt; 18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279440" y="173844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75080" y="1065240"/>
            <a:ext cx="236232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D5FE-CB52-41D5-B2EB-1AC49CC933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9880" y="15228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0440" y="2158560"/>
            <a:ext cx="791532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pre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precondition: constraint must be true, before execution of an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post</a:t>
            </a:r>
            <a:r>
              <a:rPr b="0" lang="en-US" sz="23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postcondition: constraint must be true, after execution of an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self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refers to the object on which the operation was called 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designates the result of the operation (if available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The names of the parameters can also be used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raiseWage(newWage:Integer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re: newWage &gt; self.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ost my_post: wage = new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193920" y="906480"/>
            <a:ext cx="2362320" cy="109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6931-60B7-4D61-83E9-A99A00852DB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9400" y="1429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tereotypes (Constraint types)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3080" y="919080"/>
            <a:ext cx="8434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body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ies the result of a query operation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The expression has to be conformed to the result type of the operation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getWage() :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ody: self.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init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ies the initial value of an attribute or association end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Conformity to the result type + Mulitiplicity 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wage :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it: wage = 90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deriv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specifies the derivation rule of an attribute or association end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rive : wage = self.age * 5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def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enables reuse of variables/operations over multiple OCL expressions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def: annualIncome : Integer = 12 * w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51800" y="2484360"/>
            <a:ext cx="2043000" cy="111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6C26-9F6F-4E60-9B6D-52D5EA8F70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560" y="13644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9080" y="1252440"/>
            <a:ext cx="782460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2.0 has (of course ;-)) MOF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Metamodel reflects OCL‘s abstract syntax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etamodel for OCL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a typed langu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ach OCL expression has a 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CL defines additional to UML typ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3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CollectionType, TupleType, OclMessageType,….</a:t>
            </a:r>
            <a:endParaRPr b="0" lang="en-US" sz="12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etamodel for OCL Express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fines  the possible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5647-E711-4FC0-A58E-9E8D6F115A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3440" y="90000"/>
            <a:ext cx="80647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Type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2840" y="1271520"/>
            <a:ext cx="7959600" cy="492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DC1F-AA74-4614-ADB6-841BC05952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3400" y="14436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CL 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9000" y="977400"/>
            <a:ext cx="821988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l Classifier within a UML model, to which OCL expression belongs, are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CLModelElement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.g. fo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oclIsKindO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 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re not defined in the Metamodel, exist only implicitly, if they are used (otherwise, infinite since recursive application possible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Type is abstract, has an element type, which can be CollectionType agai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et: contains elements without duplicates, no order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ag: may contain elements with duplicates, no order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equence: ordered, with duplicat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rderedSet: ordered, without duplicat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EC98-9BDE-4BC5-A88E-75A5E4E8450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CL Type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085400"/>
            <a:ext cx="8289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uple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a Struct (combination of different types into a single aggregate type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s Attribute with a name and a typ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Message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used for an access to messages of  an operation or signal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atements about the possible sending/receiving of signal/opera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oid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s only an instance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oclUndefin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s conform to all typ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A1B9-DB1B-4C79-B6F4-3827881824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49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DD64-CFD1-4354-9885-93C849F29CE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012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CL Expression Metamodel – Basis elem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5160" y="747720"/>
            <a:ext cx="7634520" cy="56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38EC-C7EE-4E73-85B8-B741DFCFEF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356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Basic construc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77796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Let, If-then-els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annualIncome : Integer = wage * 12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self.isUnemploye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nnualIncome &lt; 500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nnualIncome &gt;= 500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ndi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Standard Librar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milar to C++, Java, mostly template-based defined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imitive Typ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Integer, Real, Boolean, String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perations: +, -, min(), max(), concat()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 Types, described as Parameterized Classifier (Template)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Set&lt;T&gt;, OrderedSet&lt;T&gt;, Bag&lt;T&gt;, Sequence&lt;T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perations: size(), includes(), append()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85B0-7151-40F3-B375-92C7E1EF98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64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omic Sans MS"/>
              </a:rPr>
              <a:t>Accessing objects and their properties</a:t>
            </a:r>
            <a:endParaRPr b="1" lang="en-US" sz="2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2040" y="760320"/>
            <a:ext cx="5913360" cy="57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5609-4616-4E43-B7A8-743E13F05B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600" y="98280"/>
            <a:ext cx="8310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ccessing objects and their properties (Feature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7880" y="82980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tribut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age &gt; 18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y no have side effects (only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when?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allowed)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Comic Sans MS"/>
              </a:rPr>
              <a:t>isQuery = tru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getWage() &gt; 1000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sociation end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allow navigation to other objects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 i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when multiplicity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&gt; 1 und uniqu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 in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OrderedSet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when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Multiplicity &gt; 1 and {ordered,unique}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employer-&gt;size() &gt; 0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ccessing</a:t>
            </a:r>
            <a:r>
              <a:rPr b="1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numerations with ´</a:t>
            </a: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::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´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nder::mal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ccessing overridden properties with </a:t>
            </a:r>
            <a:r>
              <a:rPr b="0" lang="en-US" sz="2500" spc="-1" strike="noStrike">
                <a:solidFill>
                  <a:srgbClr val="a50021"/>
                </a:solidFill>
                <a:latin typeface="Courier New"/>
              </a:rPr>
              <a:t>oclAs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ontext B inv: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lf.oclAsType(A).p1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-- accesses the p1 property 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Courier New"/>
              </a:rPr>
              <a:t>-- defined in A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2884-7C4E-4617-A13B-74EB6AC74C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32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5760" y="764640"/>
            <a:ext cx="78246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llections result from Navig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allows elements of collections to be collections themselv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ultiplicity of navigated Features determines the Collection 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ion Operations: different constructs for enabling a way of projecting new collections from existing on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ion Operations do not change the 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d Op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lect/Rejec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llec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orAl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is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era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E255-3F90-4A90-952C-11D09AA284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964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0800" y="941040"/>
            <a:ext cx="86166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selec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rejec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specify a subset of a colle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result: Collection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Company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-&gt;select(age &lt; 18) -&gt; isEmpty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pression will be applied to all collection elements, context is then the related element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mplete syntax: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v : Type | boolean-expression-with-v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v | boolean-expression-with-v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select(boolean-expression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EB49-45B4-411A-85AB-0EE3BF1EFB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9828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60" y="820800"/>
            <a:ext cx="8526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50021"/>
                </a:solidFill>
                <a:latin typeface="Courier New"/>
              </a:rPr>
              <a:t>collect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specify a collection which is derived from some other collection, but which contains different objects from the original collection (result: Bag)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-&gt;collect(ag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- returns a Set of Integ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mplete syntax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v : Type | expression-with-v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v | expression-with-v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lection-&gt;collect( expression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horthand not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lf.employees.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ying a property to a collection of elements will automatically be interpreted as a 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collect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ver the members of the collection with the specified propert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30E4-270F-4261-A066-0D48305EC31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880" y="10620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llections Operations (Iterations)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600" y="841320"/>
            <a:ext cx="849456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forAll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fies expression, which must hold for all objects in a collection (result: Boolea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s-&gt;forAll(age &gt; 18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v : Type | boolean-expression-with-v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v | boolean-expression-with-v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forAll( boolean-expression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an be nest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Company inv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-&gt;forAll (e1 |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employee-&gt;forAll (e2 |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e1 &lt;&gt; e2 implies e1.pnum &lt;&gt; e2.pnum)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exists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returns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rue if the expression is true for at least one element of collection (result: Boolean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C395-8A2C-4665-ADE7-51A87DD3BB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2200" y="12852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Collections Operations (Iterations) 5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979200"/>
            <a:ext cx="8450280" cy="52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iterat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is the general form of the Iteration, all previous operations can be described in terms of iterat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iterate( elem : Type; acc : Type = &lt;expression&gt; | expression-with-elem-and-acc 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lem is the iterator, variable acc is the accumulator, which gets an initial value &lt;expression&gt;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collect(x : T | x.property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-- is identical to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llection-&gt;iterate(x : T; acc : T2 = Bag{} |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c-&gt;including(x.property)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62BD-E20A-4FE1-8E6B-C6FCA88CB67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122040"/>
            <a:ext cx="80643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Predefined Opera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4960" y="833400"/>
            <a:ext cx="84265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CL defines several Operations that apply to all object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TypeOf(t:OclTyp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s is true if the type of self and t are the sam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Employee inv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oclIsTypeOf(Employee) -- is true 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elf.oclIsTypeOf(Company)  -- is fal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KindOf(t:OclTyp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determines whether t is either the direct type or one of the supertypes of an object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New(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only in postcondition: results in true if the object is created during performing the operation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oclIsInState(t:OclState):Boolea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sults in true if the object is in the state t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8F8-9EBD-4C27-81C1-F10CEDAE38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20240"/>
            <a:ext cx="80643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tiv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 and short His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OC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lation to the UML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asic typ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bjects and their Properti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llec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essag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o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11D5-944B-4B3E-84A1-16C71D3AAD5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22040"/>
            <a:ext cx="806436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Predefined Operation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4280" y="1085400"/>
            <a:ext cx="83883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oclAsType(t:OclType):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same object, but the known type is the 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Ocl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allInstan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edefined feature on classes, interfaces and enumera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collection of all instances of the type in existence at the specific time when the expression is evaluat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 inv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Employee.allInstances()-&gt;forAll(p1, p2 |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1 &lt;&gt; p2 implies p1.name &lt;&gt; p2.name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AFB9-A151-47ED-A130-71366D5926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040" y="9828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operties in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6200" y="1085400"/>
            <a:ext cx="8326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 a Postcondition property values can be accessed at two tim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alue at precondition time (before operation execution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alue after operation execu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"@pre“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mark can be used in a Postcondition to refer to properties of the previous stat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ntext Employee::birthdayHappens(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post: age = age@pre + 1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3634-6465-4759-A936-C65A2B32D77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13644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Old values in Postcond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7560" y="1215720"/>
            <a:ext cx="75042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property (accessed with @pre) is an object, then all further accesses refer to the new valu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.b@pre.c -- takes the old value of property b of a, say x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-- and then the new value of c of x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object is destroyed, the access result to the current value is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Undefin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f the object is created, the access result to the old value is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clUndefin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A9BB-3017-47F9-8C5B-578F436A802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232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7040" y="887040"/>
            <a:ext cx="8069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New in OCL 2.0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perator hasSent (‘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^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’) is used for specifying that during the execution of an operation communication has taken place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Subject::hasChanged(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ost: self.observer^update(8, 15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rue if an update message with arguments 8 and 15 was sent to observer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update()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an Operation or a Signal defined in the UML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f the actual arguments of the operation/signal are not specified, operator ‘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?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’ can be us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xtra: Type declaration, in order to be able to address operations exactly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context Subject::hasChanged(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ost: observer^update(? : Integer, ? : Integer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2FD4-F4A6-463E-A7F8-AB5BCA27471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9640" y="14436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3360" y="1115640"/>
            <a:ext cx="8113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essage Operator ´</a:t>
            </a:r>
            <a:r>
              <a:rPr b="1" lang="en-US" sz="2100" spc="-1" strike="noStrike">
                <a:solidFill>
                  <a:srgbClr val="a50021"/>
                </a:solidFill>
                <a:latin typeface="Comic Sans MS"/>
              </a:rPr>
              <a:t>^^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´  results in the Sequence of messages sent (each element in the Sequence is an instance of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OclMessag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type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fterwards access to the parameters of the sent Operation/Signal with the formal parameter names of their definition is possible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s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 : Sequence(OclMessage) = observer^^update(? : Integer, ? : Integer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-&gt;notEmpty()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essages-&gt;exists( m | m.i &gt; 0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m.j &gt;= m.i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949D-E1E9-438C-962D-AD3B1479FE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essages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360" y="933120"/>
            <a:ext cx="8275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ccess to an operation return value (if the sent message is an operation call) is possible with </a:t>
            </a: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message.result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a50021"/>
                </a:solidFill>
                <a:latin typeface="Courier New"/>
              </a:rPr>
              <a:t>message.hasReturned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: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sults true, if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operation has already returned (asynchronous operation call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context Person::giveSalary(amount : Integer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post: let message : OclMessage = company^getMoney(amount) i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message.hasReturned() -- getMoney was sent an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turn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an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message.result() = true -- getMoney call returne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091A-3758-48FA-B4A3-6FD3A858D3B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1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8400" y="933120"/>
            <a:ext cx="8807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Keep away from complex navigation expressions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Membership does not have a loyaltyAccount if you cannot earn points in the program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Membership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 noEarnings:programs.partners.deliveredServices-&gt;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forAll(pointsEarned = 0) implies account &gt;isEmpty(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LoyaltyProgram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ef: isSaving : Boolean = partners.deliveredServices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-&gt;forAll(pointsEarned = 0)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Membership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 noEarnings: programs.isSaving implies account-&gt;isEmpty(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693960" y="3244680"/>
            <a:ext cx="473400" cy="486000"/>
          </a:xfrm>
          <a:prstGeom prst="downArrow">
            <a:avLst>
              <a:gd name="adj1" fmla="val 50000"/>
              <a:gd name="adj2" fmla="val 2566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D276-7F08-42EA-9EEF-79C184C3E0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1080" y="933120"/>
            <a:ext cx="881352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hoose context wisely (attach an invariant to the right type )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wo persons who are married to each other are not allowed to work at the same company: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wife.employers&gt;intersection(self.employer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isEmpty() and husband.employer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intersection(self.employers)-&gt;isEmpty(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Company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employees.wife-&gt;intersection(self.employees)-&gt;isEmpty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017960" y="4705200"/>
            <a:ext cx="473040" cy="486000"/>
          </a:xfrm>
          <a:prstGeom prst="downArrow">
            <a:avLst>
              <a:gd name="adj1" fmla="val 50000"/>
              <a:gd name="adj2" fmla="val 25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47840" y="1590840"/>
            <a:ext cx="6494400" cy="112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41FA-BD48-4CF9-8448-C26581F753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7360" y="933120"/>
            <a:ext cx="82756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void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allInstances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if possible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ults in the set of all instances of the modeling element and all its subtypes in the system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oblem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use of allInstances makes (often) the invariant more complex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most systems, apart from database systems, it is difficult to find all instances of a class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Person.allInstances-&gt;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forAll(p| p. parents-&gt;size &lt;= 2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Person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ents-&gt;size &lt;= 2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4032360" y="4632480"/>
            <a:ext cx="473040" cy="485640"/>
          </a:xfrm>
          <a:prstGeom prst="downArrow">
            <a:avLst>
              <a:gd name="adj1" fmla="val 50000"/>
              <a:gd name="adj2" fmla="val 2566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FCAA-8498-4F5D-B071-DE578E7D70D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1240" y="682200"/>
            <a:ext cx="877716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lit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and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mplicated constraint into several separate constraints 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me advantage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ach invariant becomes less complex and therefore easier to read and write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simpler the invariant, the more localized the proble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aintaining simpler invariants is easier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LoyaltyProgram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partners.deliveredServic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forAll(pointsEarned = 0) </a:t>
            </a:r>
            <a:r>
              <a:rPr b="1" lang="en-US" sz="2100" spc="-1" strike="noStrike">
                <a:solidFill>
                  <a:srgbClr val="cc0000"/>
                </a:solidFill>
                <a:latin typeface="Courier New"/>
              </a:rPr>
              <a:t>and</a:t>
            </a: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 Membership.car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-&gt;forAll(goodThru = Date.fromYMD(2000,1,1)) </a:t>
            </a:r>
            <a:r>
              <a:rPr b="1" lang="en-US" sz="2100" spc="-1" strike="noStrike">
                <a:solidFill>
                  <a:srgbClr val="cc0000"/>
                </a:solidFill>
                <a:latin typeface="Courier New"/>
              </a:rPr>
              <a:t>an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participants-&gt;forAll(age() &gt; 55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LoyaltyProgram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tners.deliveredServices-&gt;forAll(pointsEarned = 0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Membership.card-&gt;forAll(goodThru = Date::fromYMD(2000,1,1)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participants-&gt;forAll(age() &gt; 55)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098960" y="4691160"/>
            <a:ext cx="473040" cy="485640"/>
          </a:xfrm>
          <a:prstGeom prst="downArrow">
            <a:avLst>
              <a:gd name="adj1" fmla="val 50000"/>
              <a:gd name="adj2" fmla="val 25666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B09D-A1C0-49E8-8ADF-F2CDB4DC181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otiv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Graphic specification languages such as UML can describe often only partial aspects of a system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are often (if at all) described as marginal notes in natural languag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lmost always ambiguou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mpreci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 automatically realizable/checkab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mal Languages are better suitab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65280" y="4651200"/>
            <a:ext cx="5638680" cy="91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318A-F0A1-4EF7-8CBF-E286702306A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340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ips &amp; Tricks to write good OCL 5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6960" y="890280"/>
            <a:ext cx="877716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se the </a:t>
            </a:r>
            <a:r>
              <a:rPr b="0" i="1" lang="en-US" sz="2500" spc="-1" strike="noStrike">
                <a:solidFill>
                  <a:srgbClr val="cc0000"/>
                </a:solidFill>
                <a:latin typeface="Comic Sans MS"/>
              </a:rPr>
              <a:t>collect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horthand on collections!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context Person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Courier New"/>
              </a:rPr>
              <a:t>inv: self.parents.brothers.children-&gt;notEmpty()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text Person 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v: self.parents-&gt;collect(brothers) -&gt; collect(children)-&gt;notEmpty()</a:t>
            </a: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ways name association ends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dicates the purpose of that element for the object holding the association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04162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elpful during the implementation: the best name for the attribute (or class member) that represents the association is already determin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4157640" y="2317680"/>
            <a:ext cx="473040" cy="486000"/>
          </a:xfrm>
          <a:prstGeom prst="downArrow">
            <a:avLst>
              <a:gd name="adj1" fmla="val 50000"/>
              <a:gd name="adj2" fmla="val 2568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D637-4381-44AF-B865-A58A3CF0E86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1960" y="122040"/>
            <a:ext cx="80647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0240" y="9615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me OCL Parser are available, which can check syntax and evaluate OCL expressions (IBM and other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resden OCL Toolkit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Generates java code from OCL Constrain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an be integrated into Argo/UML and its code generatio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raints from the model are included into the progra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LCI OCL Evaluator OCLE 2.0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upport for dynamic semantic validation: allows execution of OCL expressions directly from UML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ML model checking against Rules defined at the metamodel level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DC18-A7BB-45A9-A430-18EF065D6BE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2200" y="106200"/>
            <a:ext cx="80647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0120" y="1155240"/>
            <a:ext cx="78246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unhofer OCLToo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Based on Kent OCL Library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Uses EMF librari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yntactic/semantic analyze and check of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pports evaluation at runtim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upports any models based on EMF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ynamic and some static metamodels are support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this manner also UML2 models (EMF-based UML 2.0 Metamodel implementation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bility to use it as query too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50C0-B211-4C9B-A212-DC3424957F0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5720" y="12852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unhofer OCLTool (screenshot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heck OCL constraint against an UML2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7920" y="2022480"/>
            <a:ext cx="4343400" cy="42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842-11BE-4FA9-BA8A-E91BCCE8088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2200" y="114120"/>
            <a:ext cx="80647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Tools 4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topus OCL (Eclipse Plug-In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quired Eclipse 3.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alyze and check of OCL expres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Java Code gener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Works on UML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upports XMI import (with limitations and workaround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pen source software – distributed under a public (BSD) licen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klasse.nl/english/research/octopus-intro.htm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1334-B5B2-4ACE-BEC0-616AB6B6982B}" type="slidenum">
              <a:t>4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 Sans MS"/>
              </a:rPr>
              <a:t>Motivation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360" y="812880"/>
            <a:ext cx="8278560" cy="55036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ditional formal languages (e.g. Z) require good mathematical understanding from user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ying and distribution only in academic world, not in industr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hard to learn, to complex in applic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oblem: „large“ system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Object Constraint Language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(OCL) has been developed to achieve the following goal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formal, precise, unambiguou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pplicable for a large number of users (business or system modeler, programmers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pecification langu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not a Programming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langu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ool support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6384960" y="5624640"/>
            <a:ext cx="1920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140520" y="4786200"/>
            <a:ext cx="2445840" cy="1358280"/>
            <a:chOff x="6140520" y="4786200"/>
            <a:chExt cx="2445840" cy="135828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675480" y="4786200"/>
              <a:ext cx="11462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140520" y="5624280"/>
              <a:ext cx="2445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context Employee inv: self.age &gt; 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9AAC-C514-4484-8867-6EA5011B1D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480" y="1062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Hist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7560" y="985320"/>
            <a:ext cx="782496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veloped in 1995 from IBM‘s Financial Divi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riginal goal: business modell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surance department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rived from S. Cook‘s „Syntropy“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Belongs to the UML Standard since Version 1.1 (1997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CL 2.0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Final Adopted Specific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(ptc/03-10-14) October 2003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ligned with UML 2.0 and MOF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62160" y="4591080"/>
            <a:ext cx="261936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5D7-6859-4DC1-861F-C353BC3CED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9640" y="1350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Language featur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3800" y="909720"/>
            <a:ext cx="8791560" cy="54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pecification language without side effec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valuation of an OCL expression returns a value – the model remains unchanged! (even though an OCL expression is used to specify</a:t>
            </a:r>
            <a:r>
              <a:rPr b="0" i="1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state change (e.g., post-condition) the state of the system will never change 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not a programming language ( no program logic or flow control, no invocation of processes or activation of non-query operations, only queries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CL is typed language, each OCL expression has a type. It is not allowed to compare Strings and Integer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ach Classifier defined in model represents a distinct OCL 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cludes a set of predefined typ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evaluation of an OCL expression is instantaneous, the states of objects in a model cannot change during evalu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6CC8-143F-4695-97AC-BF9454A598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9640" y="1350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Where to use OC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specification for model elements in UML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variant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e- and post conditions (Operations and Method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uard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pecification of  target (sets) for messages and act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itial or derived values for attributes &amp; association end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 „query language“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straints specification in metamodels (MOF) – MOF models are also models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667D-0E2E-4717-97BF-ACBF70984B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480" y="120600"/>
            <a:ext cx="80643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lation to the UML 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685960"/>
            <a:ext cx="80373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ach OCL expression is related to an instance of a model eleme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text declaration is used to determine the model eleme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a diagram: dashed line to the element, which the defined OCL constraint refer t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a50021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urier New"/>
              </a:rPr>
              <a:t>self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fers to the contextual instan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1035000"/>
            <a:ext cx="1066680" cy="75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79440" y="173844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9960" y="1905120"/>
            <a:ext cx="23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text Employ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nv: self.age &gt;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E1C6-BB17-461B-8DEF-81319BE31E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4:11Z</dcterms:modified>
  <cp:revision>87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